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914AE781-8BAF-4B7D-90DA-BD5D3DFE530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0E4EAE29-BD70-4CD0-B22D-5D2D005500E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TSPm Multi-Team Process 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4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Large-Scale Distributed Teamwork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s of large-scale development work are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common goal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d maintain cross-team intera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tivate team-level decision ma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multi-team distributed process is designed to accomplish these objecti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m process is for teams of up to about 150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teams need some custom-designed processes which can be develop on an as-needed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Unit Teams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720" y="1709640"/>
            <a:ext cx="76104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800" spc="-1" strike="noStrike">
                <a:solidFill>
                  <a:srgbClr val="39536b"/>
                </a:solidFill>
                <a:latin typeface="Arial"/>
              </a:rPr>
              <a:t>All the members are in a single group.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3 to ~20 member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ingle leader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flat hierarchy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multiple interdependencie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lose member interac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6740640" y="2825640"/>
            <a:ext cx="1218960" cy="1766880"/>
            <a:chOff x="6740640" y="2825640"/>
            <a:chExt cx="1218960" cy="1766880"/>
          </a:xfrm>
        </p:grpSpPr>
        <p:sp>
          <p:nvSpPr>
            <p:cNvPr id="101" name="Rectangle 4"/>
            <p:cNvSpPr/>
            <p:nvPr/>
          </p:nvSpPr>
          <p:spPr>
            <a:xfrm>
              <a:off x="6740640" y="2825640"/>
              <a:ext cx="121896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2" name="Oval 5"/>
            <p:cNvSpPr/>
            <p:nvPr/>
          </p:nvSpPr>
          <p:spPr>
            <a:xfrm>
              <a:off x="6807240" y="377820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3" name="Oval 6"/>
            <p:cNvSpPr/>
            <p:nvPr/>
          </p:nvSpPr>
          <p:spPr>
            <a:xfrm>
              <a:off x="6943680" y="3913200"/>
              <a:ext cx="338040" cy="2728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4" name="Oval 7"/>
            <p:cNvSpPr/>
            <p:nvPr/>
          </p:nvSpPr>
          <p:spPr>
            <a:xfrm>
              <a:off x="7078680" y="404964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5" name="Oval 8"/>
            <p:cNvSpPr/>
            <p:nvPr/>
          </p:nvSpPr>
          <p:spPr>
            <a:xfrm>
              <a:off x="7213680" y="418608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6" name="Oval 9"/>
            <p:cNvSpPr/>
            <p:nvPr/>
          </p:nvSpPr>
          <p:spPr>
            <a:xfrm>
              <a:off x="7350120" y="432108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 flipH="1">
              <a:off x="7078680" y="3504960"/>
              <a:ext cx="271440" cy="272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8" name="Line 11"/>
            <p:cNvSpPr/>
            <p:nvPr/>
          </p:nvSpPr>
          <p:spPr>
            <a:xfrm flipH="1">
              <a:off x="7213320" y="3504960"/>
              <a:ext cx="136440" cy="407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7350120" y="3504960"/>
              <a:ext cx="0" cy="61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7350120" y="3504960"/>
              <a:ext cx="13464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1" name="Line 14"/>
            <p:cNvSpPr/>
            <p:nvPr/>
          </p:nvSpPr>
          <p:spPr>
            <a:xfrm>
              <a:off x="7350120" y="3504960"/>
              <a:ext cx="269640" cy="8841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Large Teams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 teams usually have multiple unit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5 to 100+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gle project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ltiple team lead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ee-like hierarch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ttle cross-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a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03640" y="2604960"/>
            <a:ext cx="3997440" cy="3194280"/>
            <a:chOff x="4103640" y="2604960"/>
            <a:chExt cx="3997440" cy="3194280"/>
          </a:xfrm>
        </p:grpSpPr>
        <p:sp>
          <p:nvSpPr>
            <p:cNvPr id="115" name="Rectangle 4"/>
            <p:cNvSpPr/>
            <p:nvPr/>
          </p:nvSpPr>
          <p:spPr>
            <a:xfrm>
              <a:off x="5526000" y="2604960"/>
              <a:ext cx="121932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4103640" y="4032360"/>
              <a:ext cx="121932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7" name="Oval 6"/>
            <p:cNvSpPr/>
            <p:nvPr/>
          </p:nvSpPr>
          <p:spPr>
            <a:xfrm>
              <a:off x="4171680" y="49831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>
              <a:off x="4306680" y="511992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443120" y="52549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4578120" y="539136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4713120" y="5526360"/>
              <a:ext cx="339480" cy="2728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 flipH="1">
              <a:off x="4442760" y="4711680"/>
              <a:ext cx="269640" cy="27144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 flipH="1">
              <a:off x="4578120" y="4711680"/>
              <a:ext cx="134640" cy="407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4713120" y="4711680"/>
              <a:ext cx="0" cy="611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4713120" y="4711680"/>
              <a:ext cx="13644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4713120" y="4711680"/>
              <a:ext cx="271440" cy="88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5526000" y="4032360"/>
              <a:ext cx="121932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594400" y="49831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5729400" y="511992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5865840" y="52549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6000840" y="539136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Oval 21"/>
            <p:cNvSpPr/>
            <p:nvPr/>
          </p:nvSpPr>
          <p:spPr>
            <a:xfrm>
              <a:off x="6135840" y="5526360"/>
              <a:ext cx="339480" cy="2728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 flipH="1">
              <a:off x="5865480" y="4711680"/>
              <a:ext cx="269640" cy="27144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H="1">
              <a:off x="6000840" y="4711680"/>
              <a:ext cx="134640" cy="407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>
              <a:off x="6135840" y="4711680"/>
              <a:ext cx="0" cy="611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6135840" y="4711680"/>
              <a:ext cx="13644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>
              <a:off x="6135840" y="4711680"/>
              <a:ext cx="271440" cy="88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6881760" y="4032360"/>
              <a:ext cx="121932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9" name="Oval 28"/>
            <p:cNvSpPr/>
            <p:nvPr/>
          </p:nvSpPr>
          <p:spPr>
            <a:xfrm>
              <a:off x="6950160" y="49831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0" name="Oval 29"/>
            <p:cNvSpPr/>
            <p:nvPr/>
          </p:nvSpPr>
          <p:spPr>
            <a:xfrm>
              <a:off x="7085160" y="51199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1" name="Oval 30"/>
            <p:cNvSpPr/>
            <p:nvPr/>
          </p:nvSpPr>
          <p:spPr>
            <a:xfrm>
              <a:off x="7220160" y="525492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2" name="Oval 31"/>
            <p:cNvSpPr/>
            <p:nvPr/>
          </p:nvSpPr>
          <p:spPr>
            <a:xfrm>
              <a:off x="7356600" y="539136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3" name="Oval 32"/>
            <p:cNvSpPr/>
            <p:nvPr/>
          </p:nvSpPr>
          <p:spPr>
            <a:xfrm>
              <a:off x="7491600" y="5526360"/>
              <a:ext cx="338040" cy="2728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H="1">
              <a:off x="7220160" y="4711680"/>
              <a:ext cx="271440" cy="27144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 flipH="1">
              <a:off x="7356600" y="4711680"/>
              <a:ext cx="134640" cy="407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7491600" y="4711680"/>
              <a:ext cx="0" cy="611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>
              <a:off x="7491600" y="4711680"/>
              <a:ext cx="13464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7491600" y="4711680"/>
              <a:ext cx="271440" cy="88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 flipH="1">
              <a:off x="4712760" y="3284280"/>
              <a:ext cx="142236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6135840" y="3284280"/>
              <a:ext cx="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6135840" y="3284280"/>
              <a:ext cx="142380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Large Team Communication 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ble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rge teams, communication is generally through the manager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ngineers on unit teams have no orderly way to communic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m Sol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unit team names 8 role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, process, support, and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interface, design, implementation, and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managers handle issues within their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managers form role-manager teams to communicate across the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SPm Communication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55" name="Group 2"/>
          <p:cNvGrpSpPr/>
          <p:nvPr/>
        </p:nvGrpSpPr>
        <p:grpSpPr>
          <a:xfrm>
            <a:off x="1214640" y="1641600"/>
            <a:ext cx="6837480" cy="4552920"/>
            <a:chOff x="1214640" y="1641600"/>
            <a:chExt cx="6837480" cy="4552920"/>
          </a:xfrm>
        </p:grpSpPr>
        <p:sp>
          <p:nvSpPr>
            <p:cNvPr id="156" name="Rectangle 3"/>
            <p:cNvSpPr/>
            <p:nvPr/>
          </p:nvSpPr>
          <p:spPr>
            <a:xfrm>
              <a:off x="3670200" y="1647720"/>
              <a:ext cx="2133360" cy="74124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Project Management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Leadership Team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2703240" y="3135240"/>
              <a:ext cx="1218960" cy="6807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8" name="Rectangle 5"/>
            <p:cNvSpPr/>
            <p:nvPr/>
          </p:nvSpPr>
          <p:spPr>
            <a:xfrm>
              <a:off x="4125960" y="3135240"/>
              <a:ext cx="1220760" cy="6807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5481720" y="3135240"/>
              <a:ext cx="1218960" cy="6807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 flipH="1">
              <a:off x="3312720" y="2389320"/>
              <a:ext cx="1423800" cy="745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4736880" y="2389320"/>
              <a:ext cx="0" cy="745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4736880" y="2389320"/>
              <a:ext cx="1422360" cy="745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3313080" y="3816360"/>
              <a:ext cx="0" cy="23781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2365200" y="408780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2365200" y="435924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2365200" y="463104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2365200" y="490392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365200" y="517536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>
              <a:off x="2365200" y="544680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2365200" y="571824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2365200" y="599148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4736880" y="3816360"/>
              <a:ext cx="0" cy="23781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6091200" y="3816360"/>
              <a:ext cx="0" cy="23781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6624360" y="3951360"/>
              <a:ext cx="754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Planning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6623280" y="4222800"/>
              <a:ext cx="7074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Process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6" name="Text Box 23"/>
            <p:cNvSpPr/>
            <p:nvPr/>
          </p:nvSpPr>
          <p:spPr>
            <a:xfrm>
              <a:off x="6625800" y="4496040"/>
              <a:ext cx="699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7" name="Text Box 24"/>
            <p:cNvSpPr/>
            <p:nvPr/>
          </p:nvSpPr>
          <p:spPr>
            <a:xfrm>
              <a:off x="6624360" y="4767480"/>
              <a:ext cx="6404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Quality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8" name="Text Box 25"/>
            <p:cNvSpPr/>
            <p:nvPr/>
          </p:nvSpPr>
          <p:spPr>
            <a:xfrm>
              <a:off x="6609960" y="5038920"/>
              <a:ext cx="14421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Customer Interface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9" name="Text Box 26"/>
            <p:cNvSpPr/>
            <p:nvPr/>
          </p:nvSpPr>
          <p:spPr>
            <a:xfrm>
              <a:off x="6625800" y="5310360"/>
              <a:ext cx="629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0" name="Text Box 27"/>
            <p:cNvSpPr/>
            <p:nvPr/>
          </p:nvSpPr>
          <p:spPr>
            <a:xfrm>
              <a:off x="6615360" y="5583600"/>
              <a:ext cx="12013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Implementation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1" name="Text Box 28"/>
            <p:cNvSpPr/>
            <p:nvPr/>
          </p:nvSpPr>
          <p:spPr>
            <a:xfrm>
              <a:off x="6628320" y="5855040"/>
              <a:ext cx="4514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Test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2" name="Text Box 29"/>
            <p:cNvSpPr/>
            <p:nvPr/>
          </p:nvSpPr>
          <p:spPr>
            <a:xfrm>
              <a:off x="1214640" y="4562640"/>
              <a:ext cx="1007640" cy="8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he rol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3" name="Text Box 30"/>
            <p:cNvSpPr/>
            <p:nvPr/>
          </p:nvSpPr>
          <p:spPr>
            <a:xfrm>
              <a:off x="1284480" y="2184480"/>
              <a:ext cx="182772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he managemen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hierarch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4" name="Line 31"/>
            <p:cNvSpPr/>
            <p:nvPr/>
          </p:nvSpPr>
          <p:spPr>
            <a:xfrm>
              <a:off x="1687320" y="2863800"/>
              <a:ext cx="0" cy="8157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Line 32"/>
            <p:cNvSpPr/>
            <p:nvPr/>
          </p:nvSpPr>
          <p:spPr>
            <a:xfrm flipV="1">
              <a:off x="1687320" y="1641600"/>
              <a:ext cx="0" cy="542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1687320" y="5378760"/>
              <a:ext cx="0" cy="61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 flipV="1">
              <a:off x="1687320" y="3951000"/>
              <a:ext cx="0" cy="610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eam Coordination and Control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 systems require overall control 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s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nd issu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entrally controlling these items can delay the engineers and unit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ol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unit team gives role managers responsibility to coordinate these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manager teams coordinate these issues across the unit teams and with the leadershi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Large-Scale Teamworking Skills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work in a large distributed-team environment, developers must consisten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and track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 their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iver quality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to dynamic 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m meets these needs by using unit teams that each follow the TSP and consistently do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6:32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8:02Z</dcterms:modified>
  <cp:revision>47</cp:revision>
  <dc:subject>24 July 2001 / 3:30pm</dc:subject>
  <dc:title>PowerPoint Presentation</dc:title>
</cp:coreProperties>
</file>